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3D5-39FB-4D62-BD6A-35BB5255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2BC3-CA0A-4913-BDEB-A87B35D0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BA7-79F9-48B9-BB78-DAB966B3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F3B-3D43-48B3-9342-85E804C7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4918-35E3-466E-9A6D-F7BFC62F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8AD9-E165-40EB-9417-40BBD0A6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DB3B-44CC-4E1B-B6F2-3A759DEA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6F4E-8864-4BCC-9A14-DA1E9D91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87EA-671A-48DF-B606-187194C4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0FDE-6E20-438F-9306-9543D8CA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D16B-FA7D-4DFF-AA92-7C964AA2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C47-CDA6-437F-98C4-89BB5F7C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2038-43E3-45A6-A672-A3695137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12A9-869A-4484-A191-C296FA8B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0C95-E78F-4B51-9952-2412638A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49AD-0020-4787-AF82-82D74480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0A9E-6EFD-4BBA-A867-BBD8BB65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3FEE-9587-497F-8290-1DB037DD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1C3F-6E2C-4751-BB1A-AEE73C30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D51C-2922-4688-8A8F-4FFE9881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E5B0-7BB0-4972-ADDF-CFC4B1B8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6EF-23D4-4083-BDBA-F2558414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A091-AD75-4EAD-973D-86CAD830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70F-92D0-4BF7-946C-5479370F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93AC-49A0-4C5D-9E74-EF0C54E9705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A7DC-1BA9-429E-B38D-E5985D5A168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Εξέλιξη της επικοινωνίας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λέξανδρος Ηλιόπουλος Α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Κέβιν Σακάης Α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Σηματοφόροι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95280" y="2374920"/>
            <a:ext cx="2736720" cy="2979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708000" y="1341360"/>
            <a:ext cx="5040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Μηχανή με κινητούς βραχίονες που μπορούσε να μεταβιβάσει σήματα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Οι διάφορες θέσεις των βραχιόνων αντιπροσώπευαν τα σήματα που μεταβιβάζονταν από σηματοφόρο σε σηματοφόρο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Ύστερα από πολλές δοκιμές και απογοητεύσεις οι Γάλλοι αδερφοί Ignace και Claude Chappe συνέδεσαν τις πόλεις Παρίσι και Λιλ (απόσταση 300 χλμ.) με 22 σταθμούς αναμετάδοσης το 1794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Το σύστημα αυτό χρησιμοποιήθηκε με διάφορες παραλλαγές σε όλη σχεδόν την Ευρώπη στις αρχές του 19ου αιώνα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545080" cy="40323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Τηλέγραφος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Τηλέγραφος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Είναι το μέσο που έφερε την επανάσταση στις τηλεπικοινωνίες. Πολύ ταχύτερο και πολύ πιο αξιόπιστο από όλα τα προηγούμενα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Με τον τηλέγραφο αξιοποιήθηκαν αποδοτικά οι ιδιότητες του ηλεκτρισμού. Ο τηλέγραφος δημιουργεί ηλεκτρικές μεταβολές που προκαλούνται από τον αποστολέα. Οι μεταβολές μεταφέρονται στον αποδέκτη όπου και μετατρέπονται σε κατανοητά σήματα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Τρεις παράγοντες συντέλεσαν στην ανάπτυξη του τηλέγραφου: Η ανακάλυψη των ιδιοτήτων του ηλεκτρισμού, η τεχνολογική δυνατότητα παραγωγής χάλκινων αγωγών μεγάλου μήκους και οι ανάγκες των σιδηροδρόμων που διέθεταν οικονομική δυνατότητα να χρηματοδοτήσουν εφευρέτες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Μεταξύ των πολλών έξυπνων ιδεών και εφαρμογών ξεχωρίζουν οι επινοήσεις των Cooke - Wheatstone και Morse, οι οποίοι με τις αντίστοιχες επιχειρήσεις που ίδρυσαν στις χώρες τους έθεσαν τις βάσεις τις τηλεγραφίας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Το δημόσιο ενδιαφέρον για το μέσο ενεργοποιήθηκε όταν κάποιοι είδαν το δολοφόνο μιας γυναίκας να επιβιβάζεται σε τρένο με προορισμό το Λονδίνο και η τηλεγραφική ειδοποίηση οδήγησε στη σύλληψή το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ccecff"/>
                </a:solidFill>
                <a:latin typeface="Arial"/>
              </a:rPr>
              <a:t>Τηλέγραφος Cooke - Wheatstone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56000" y="1052640"/>
            <a:ext cx="4608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Στην Αγγλία το 1837 ο William Cooke, απόστρατος τού Στρατού των Ινδιών, και ο Charles Wheatstone, καθηγητής του King's College επινόησαν δύο τηλεγραφικές συσκευές για τους σιδηρόδρομους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Η πρώτη συσκευή χρησιμοποιούσε πέντε βελόνες και ήταν απλή στη χρήση, ενώ η δεύτερη που χρησιμοποιούσε δύο είχε πολύ μικρότερες απαιτήσεις σε αγωγούς σύνδεσης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Το σύστημα των Cooke - Wheatstone χρησιμοποιήθηκε ευρύτατα στους σιδηρόδρομους. Αργότερα (1848) ο Wheatstone κατασκεύασε τον τηλέγραφο "ABC" που χρειαζόταν ένα μόνο σύρμα (επιστροφή με γείωση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56400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ccecff"/>
                </a:solidFill>
                <a:latin typeface="Arial"/>
              </a:rPr>
              <a:t>Τηλέγραφος Morse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Ο Samuel Morse (1791-1872) γεννήθηκε στο Charlestown της Μασσαχουσέτης και σπούδασε στο Πανεπιστήμιο του Yale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Ήταν καλλιτέχνης προσωπογράφος και το ενδιαφέρον του για τα συστήματα τηλεπικοινωνιών γεννήθηκε από τις επαφές και τα ταξίδια του στην Ευρώπη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Επινόησε συσκευή με την οποία έστειλε το πρώτο τηλεγραφικό σήμα στις ΗΠΑ (1837), και εφεύρε τον κώδικα Morse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Βοηθήθηκε από τον φημισμένο Joseph Henre και τον νεαρό μηχανικό Alfred Vail, στον οποίο οφείλεται και η αντιστοιχία των σημάτων Morse με τους χαρακτήρες (γράμματα)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Με ταχύτητες 20 περίπου λέξεων το λεπτό, ο τηλέγραφος Morse έγινε το πλέον διαδεδομένο τηλεγραφικό σύστημα στον κόσμο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Μόνο στις ΗΠΑ, έως το 1866, η Western Union Telegraph είχε εγκαταστήσει 120.000 χιλιόμετρα τηλεγραφικές γραμμέ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ccecff"/>
                </a:solidFill>
                <a:latin typeface="Arial"/>
              </a:rPr>
              <a:t>Τηλέγραφος Mor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473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Τηλέφωνο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Συσκευή που επιτρέπει την άμεση επικοινωνία με χρήση της φωνής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Μια από τις σημαντικότερες εφευρέσεις στην ιστορία της ανθρωπότητας. Εκμηδένισε τις αποστάσεις και επέδρασε στην οικονομική και κοινωνική ζωή των ανθρώπων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Το 1876 ο Alexander Graham Bell στην παγκόσμια έκθεση της Φιλαδέλφειας των Η.Π.Α. παρουσίασε για πρώτη φορά την τελειοποιημένη κατασκευή του σε ένα αδιάφορο κοιν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374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Τηλεφωνικά κέντρα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Εξυπηρετούν τις ανάγκες διασύνδεσης πολλών τηλεφώνων μεταξύ τους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Από το 1880 και για πολλά χρόνια λειτούργησαν χειροκίνητα κέντρα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Το 1889 ο Almon Strowger, στο Κάνσας των Η.Π.Α., επινόησε το πρώτο ηλεκτρομηχανικό σύστημα διασύνδεσης (ζεύξης)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Τα αυτόματα ηλεκτρομηχανολογικά κέντρα εξελίχθηκαν στη συνέχεια στα αυτόματα ηλεκτρονικά κέντρα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529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Δορυφόροι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Η χρήση δορυφόρων στις τηλεπικοινωνίες επέτρεψε την εύκολη διασύνδεση απομακρυσμένων περιοχών της υδρογείου.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Κατήργησε την ανάγκη χρήσης συρμάτινων αγωγών τεραστίου μήκους ή την χρήση πολλών και ισχυρών επίγειων αναμεταδοτών.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Ο πρώτος τηλεπικοινωνιακός δορυφόρος εκτοξεύτηκε από τη NASA στις 12 Αυγούστου 1960  ήταν ο ECHO 1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8876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Οπτικές ίνες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356000" y="1052280"/>
            <a:ext cx="4330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Οι οπτικές ίνες επέτρεψαν τη μεταφορά του φωτός λέιζερ που είναι ικανό να μεταδώσει μεγάλο όγκο πληροφοριών.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Το 1966 διαπιστώθηκε ότι οπτικές ίνες από γυαλί ήταν κατάλληλοι κυματοδηγοί φωτεινής ακτινοβολίας.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Το 1970 παρήχθη οπτική ίνα για πρακτικές εφαρμογές. Η εξέλιξη των οπτικών ινών ακολουθεί την εξέλιξη των υλικών και ιδιαίτερα την ελαχιστοποίηση της απόσβεσης που προκαλούν στο φως που τις διαρρέει.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Μια οπτική ίνα μπορεί να εξυπηρετήσει χιλιάδες τηλεφωνικά κυκλώματα και έτσι ισοδυναμεί με εκατοντάδες χάλκινους αγωγούς, ενώ ταυτόχρονα υπερτερεί και στην ποιότητα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598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Αγγελιοφόροι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Μεταφορά προφορικών και γραπτών μηνυμάτων με δρομείς.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Ήταν πολύ συνηθισμένη μέθοδος στην αρχαία Ελλάδα.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Πολύ γνωστός αγγελιοφόρος είναι ο Φειδιππίδης που μετέφερε το μήνυμα της νίκης των Ελλήνων κατά των Περσών από τον Μαραθώνα στην Αθήνα.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Στην Ελληνική μυθολογία ο Ερμής θεωρείτο ο αγγελιοφόρος των Θεών του Ολύμπο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45600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cecff"/>
                </a:solidFill>
                <a:latin typeface="Arial"/>
              </a:rPr>
              <a:t>Τηλεεφαρμογές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134100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</a:rPr>
              <a:t>Η εξάπλωση των τηλεπικοινωνιακών δικτύων, η αυτοματοποίηση και μηχανογράφηση πολλών εργασιών με τη διάδοση των Η/Υ καθώς και το υψηλό κόστος αγοράς ή ενοικίασης γραφείων στα κέντρα των μεγαλουπόλεων, δημιούργησε νέα εργασιακά καθεστώτα.</a:t>
            </a:r>
            <a:br>
              <a:rPr sz="1800"/>
            </a:br>
            <a:r>
              <a:rPr b="0" lang="en-US" sz="1800" spc="-1" strike="noStrike">
                <a:solidFill>
                  <a:srgbClr val="ffcc66"/>
                </a:solidFill>
                <a:latin typeface="Verdana"/>
              </a:rPr>
              <a:t>Ο υπάλληλος μιας εταιρείας, έχοντας τον κατάλληλο εξοπλισμό, μπορεί πλέον να εργάζεται στο σπίτι του, στον ηλεκτρονικό του υπολογιστή και να επικοινωνεί με την εταιρεία του μέσω δικτύου. Ο έλεγχος πολλών συσκευών και εγκαταστάσεων μπορεί να γίνει από απόσταση, χωρίς να είναι απαραίτητη η συνεχής ύπαρξη ανθρώπων στις εγκαταστάσεις αυτέ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527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Φρυκτωρίες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66"/>
                </a:solidFill>
                <a:latin typeface="Verdana"/>
              </a:rPr>
              <a:t>Οι φρυκτωρίες αποτέλεσαν μέσο που χρησιμοποιήθηκε για την ανάπτυξη συστήματος μεταβίβασης φωτεινών σημάτων στην περιοχή της αρχαίας Ελλάδας.</a:t>
            </a:r>
            <a:br>
              <a:rPr sz="2400"/>
            </a:br>
            <a:r>
              <a:rPr b="0" lang="el-GR" sz="2400" spc="-1" strike="noStrike">
                <a:solidFill>
                  <a:srgbClr val="ffcc66"/>
                </a:solidFill>
                <a:latin typeface="Verdana"/>
              </a:rPr>
              <a:t>Ήταν εγκατεστημένες σε προνομιακές, λόγω θέσης, κορυφές βουνών. Το άναμμα της πρώτης φρυκτωρίας ακολουθούσαν διαδοχικά οι υπόλοιπες, συγκροτώντας έτσι μία γραμμή επικοινωνίας.</a:t>
            </a:r>
            <a:br>
              <a:rPr sz="2400"/>
            </a:br>
            <a:r>
              <a:rPr b="0" lang="el-GR" sz="2400" spc="-1" strike="noStrike">
                <a:solidFill>
                  <a:srgbClr val="ffcc66"/>
                </a:solidFill>
                <a:latin typeface="Verdana"/>
              </a:rPr>
              <a:t>Χρησιμοποιήθηκαν για στρατιωτικούς κυρίως σκοπούς από την εποχή του Τρωϊκού Πολέμου έως τους βυζαντινούς χρόνους.</a:t>
            </a:r>
            <a:br>
              <a:rPr sz="2400"/>
            </a:br>
            <a:r>
              <a:rPr b="0" lang="el-GR" sz="2400" spc="-1" strike="noStrike">
                <a:solidFill>
                  <a:srgbClr val="ffcc66"/>
                </a:solidFill>
                <a:latin typeface="Verdana"/>
              </a:rPr>
              <a:t>Τα μηνύματα ήταν προσυμφωνημένα και περιορισμέν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Φρυκτωρίες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327400" y="1600200"/>
            <a:ext cx="4487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ccecff"/>
                </a:solidFill>
                <a:latin typeface="Arial"/>
              </a:rPr>
              <a:t>Πυρσίες</a:t>
            </a:r>
            <a:br>
              <a:rPr sz="4000"/>
            </a:br>
            <a:r>
              <a:rPr b="0" lang="el-GR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Η μέθοδος σηματοδότησης που επινόησαν οι Αλεξανδρινοί τεχνικοί Κλεοξένης και Δημόκλειτος το 150 π.Χ. θα μπορούσε να θεωρηθεί ο πρώτος οπτικός τηλέγραφος που αναφέρεται στην ιστορία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Το σύστημα αποτελούνταν από δύο ομάδες πυρσών. Συνδυασμοί αναμμένων πυρσών αντιστοιχούσαν στα διάφορα γράμματα. Το μήνυμα ήταν πλήρες, μπορούσε όμως να γίνει διακριτό σε μικρές σχετικά αποστάσει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3646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Υδραυλικός τηλέγραφος του Αινεία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Επινοήθηκε τον 4ο π.Χ αιώνα από τον Αρκάδα στρατηγό Αινεία τον Τακτικό. Η συσκευή και ο κώδικας επικοινωνίας παρείχαν ακρίβεια και περιεκτικότητα περιεχομένου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Μειονεκτούσε στην ταχύτητα μετάδοσης. Στηριζόταν στο συγχρονισμό πομπού - δέκτη. Η έννοια του συγχρονισμού κυριαρχεί και στα σύγχρονα τηλεπικοινωνιακά συστήματα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33847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Ταχυδρομικά περιστέρια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Verdana"/>
              </a:rPr>
              <a:t>Χρησιμοποιήθηκαν για να μεταφέρουν γραπτά μηνύματα.</a:t>
            </a:r>
            <a:br>
              <a:rPr sz="2200"/>
            </a:br>
            <a:r>
              <a:rPr b="0" lang="en-US" sz="2200" spc="-1" strike="noStrike">
                <a:solidFill>
                  <a:srgbClr val="ffcc66"/>
                </a:solidFill>
                <a:latin typeface="Verdana"/>
              </a:rPr>
              <a:t>Τα ταχυδρομικά περιστέρια έχουν αλάνθαστο ένστικτο, μεγάλη μνήμη και εξαιρετική ικανότητα προσανατολισμού. Ύστερα από προσεκτική εκπαίδευση μπορούν να χρησιμοποιηθούν σε μεγάλες αποστάσεις (1,000 χιλιόμετρα). Αναπτύσσουν ταχύτητα μέχρι 55 χιλιόμετρα την ώρα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425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Ταμ ταμ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66"/>
                </a:solidFill>
                <a:latin typeface="Verdana"/>
              </a:rPr>
              <a:t>Χρησιμοποιήθηκε κυρίως από αρχαίες Αφρικανικές φυλές.</a:t>
            </a:r>
            <a:br>
              <a:rPr sz="2400"/>
            </a:br>
            <a:r>
              <a:rPr b="0" lang="el-GR" sz="2400" spc="-1" strike="noStrike">
                <a:solidFill>
                  <a:srgbClr val="ffcc66"/>
                </a:solidFill>
                <a:latin typeface="Verdana"/>
              </a:rPr>
              <a:t>Ο βαρύς ήχος των τυμπάνων μετέφερε το μήνυμα από τυμπανιστή σε τυμπανιστή.</a:t>
            </a:r>
            <a:br>
              <a:rPr sz="2400"/>
            </a:br>
            <a:r>
              <a:rPr b="0" lang="el-GR" sz="2400" spc="-1" strike="noStrike">
                <a:solidFill>
                  <a:srgbClr val="ffcc66"/>
                </a:solidFill>
                <a:latin typeface="Verdana"/>
              </a:rPr>
              <a:t>Σε αντίθεση με τις "οπτικές" μεθόδους υπήρχε η δυνατότητα αποστολής και λήψης μηνυμάτων σε όλη τη διάρκεια του εικοσιτετράωρου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85680" y="2784600"/>
            <a:ext cx="2979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Σήματα καπνού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11280" y="980640"/>
            <a:ext cx="447516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Χρησιμοποιήθηκαν από τους ιθαγενείς ινδιάνους της Αμερικής.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Με τη βοήθεια κουβέρτας που σκέπαζε και αποκάλυπτε την εστία της φωτιάς δημιουργούνταν σύννεφα καπνού.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Με τα σήματα καπνού ο παρατηρητής είχε περιορισμένη αλλά εξαιρετικής σημασίας πληροφόρηση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38292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9:18:21Z</dcterms:created>
  <dc:creator>user2</dc:creator>
  <dc:description/>
  <dc:language>en-US</dc:language>
  <cp:lastModifiedBy>user2</cp:lastModifiedBy>
  <dcterms:modified xsi:type="dcterms:W3CDTF">2011-12-21T08:39:04Z</dcterms:modified>
  <cp:revision>7</cp:revision>
  <dc:subject/>
  <dc:title>Εξέλιξη της επικοινωνίας</dc:title>
</cp:coreProperties>
</file>